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818F-32A8-4D94-94F1-F538F9505E7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17F1-6E7E-40B5-905D-53F23A50E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985680" y="741240"/>
            <a:ext cx="4886640" cy="3665520"/>
          </a:xfrm>
          <a:prstGeom prst="rect">
            <a:avLst/>
          </a:prstGeom>
          <a:ln w="0">
            <a:noFill/>
          </a:ln>
        </p:spPr>
      </p:sp>
      <p:sp>
        <p:nvSpPr>
          <p:cNvPr id="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5619-03A8-432D-B812-A21CD6F74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7AD2-69F4-4A99-966A-BBEF103AF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985680" y="741240"/>
            <a:ext cx="4886640" cy="3665520"/>
          </a:xfrm>
          <a:prstGeom prst="rect">
            <a:avLst/>
          </a:prstGeom>
          <a:ln w="0">
            <a:noFill/>
          </a:ln>
        </p:spPr>
      </p:sp>
      <p:sp>
        <p:nvSpPr>
          <p:cNvPr id="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4095-5D40-4F19-A88E-8F6463AEC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DC6C-66DD-4844-A936-A9B000C4C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985680" y="741240"/>
            <a:ext cx="4886640" cy="3665520"/>
          </a:xfrm>
          <a:prstGeom prst="rect">
            <a:avLst/>
          </a:prstGeom>
          <a:ln w="0">
            <a:noFill/>
          </a:ln>
        </p:spPr>
      </p:sp>
      <p:sp>
        <p:nvSpPr>
          <p:cNvPr id="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DFFD-84D0-4CB6-B6AF-C616420DB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3283-4108-46DF-A7FF-EFE6EF406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985680" y="741240"/>
            <a:ext cx="4886640" cy="3665520"/>
          </a:xfrm>
          <a:prstGeom prst="rect">
            <a:avLst/>
          </a:prstGeom>
          <a:ln w="0">
            <a:noFill/>
          </a:ln>
        </p:spPr>
      </p:sp>
      <p:sp>
        <p:nvSpPr>
          <p:cNvPr id="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699E-E388-440E-89A6-3DA61072A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985680" y="741240"/>
            <a:ext cx="4886640" cy="3665520"/>
          </a:xfrm>
          <a:prstGeom prst="rect">
            <a:avLst/>
          </a:prstGeom>
          <a:ln w="0">
            <a:noFill/>
          </a:ln>
        </p:spPr>
      </p:sp>
      <p:sp>
        <p:nvSpPr>
          <p:cNvPr id="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6ABE-2E84-4FA8-A6FE-9958C2101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985680" y="741240"/>
            <a:ext cx="4886640" cy="3665520"/>
          </a:xfrm>
          <a:prstGeom prst="rect">
            <a:avLst/>
          </a:prstGeom>
          <a:ln w="0">
            <a:noFill/>
          </a:ln>
        </p:spPr>
      </p:sp>
      <p:sp>
        <p:nvSpPr>
          <p:cNvPr id="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AE97-7EB5-44B8-BD2A-76703B358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AC45-78EE-4640-95BC-25772C0BD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985680" y="741240"/>
            <a:ext cx="4886640" cy="3665520"/>
          </a:xfrm>
          <a:prstGeom prst="rect">
            <a:avLst/>
          </a:prstGeom>
          <a:ln w="0">
            <a:noFill/>
          </a:ln>
        </p:spPr>
      </p:sp>
      <p:sp>
        <p:nvSpPr>
          <p:cNvPr id="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FA4A-E4A6-4011-BA0B-37EBC64F7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985680" y="741240"/>
            <a:ext cx="4886640" cy="3665520"/>
          </a:xfrm>
          <a:prstGeom prst="rect">
            <a:avLst/>
          </a:prstGeom>
          <a:ln w="0">
            <a:noFill/>
          </a:ln>
        </p:spPr>
      </p:sp>
      <p:sp>
        <p:nvSpPr>
          <p:cNvPr id="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93EA-B842-4E94-B730-B5B60D306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985680" y="741240"/>
            <a:ext cx="4886640" cy="3665520"/>
          </a:xfrm>
          <a:prstGeom prst="rect">
            <a:avLst/>
          </a:prstGeom>
          <a:ln w="0">
            <a:noFill/>
          </a:ln>
        </p:spPr>
      </p:sp>
      <p:sp>
        <p:nvSpPr>
          <p:cNvPr id="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9329-A364-4AA0-9110-0D6FB7885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985680" y="741240"/>
            <a:ext cx="4886640" cy="3665520"/>
          </a:xfrm>
          <a:prstGeom prst="rect">
            <a:avLst/>
          </a:prstGeom>
          <a:ln w="0">
            <a:noFill/>
          </a:ln>
        </p:spPr>
      </p:sp>
      <p:sp>
        <p:nvSpPr>
          <p:cNvPr id="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0FF8-575D-4071-ADCA-50C79C10B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77D2-5C8B-403A-B78A-49668756F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985680" y="741240"/>
            <a:ext cx="4886640" cy="3665520"/>
          </a:xfrm>
          <a:prstGeom prst="rect">
            <a:avLst/>
          </a:prstGeom>
          <a:ln w="0">
            <a:noFill/>
          </a:ln>
        </p:spPr>
      </p:sp>
      <p:sp>
        <p:nvSpPr>
          <p:cNvPr id="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C0B3-9242-4A73-BC9B-778AE5DF8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985680" y="741240"/>
            <a:ext cx="4886640" cy="3665520"/>
          </a:xfrm>
          <a:prstGeom prst="rect">
            <a:avLst/>
          </a:prstGeom>
          <a:ln w="0">
            <a:noFill/>
          </a:ln>
        </p:spPr>
      </p:sp>
      <p:sp>
        <p:nvSpPr>
          <p:cNvPr id="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6F3F-ACE3-405D-8D33-60E923FA0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985680" y="741240"/>
            <a:ext cx="4886640" cy="3665520"/>
          </a:xfrm>
          <a:prstGeom prst="rect">
            <a:avLst/>
          </a:prstGeom>
          <a:ln w="0">
            <a:noFill/>
          </a:ln>
        </p:spPr>
      </p:sp>
      <p:sp>
        <p:nvSpPr>
          <p:cNvPr id="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0912-D8D8-4366-8EE6-D2D19A398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F558-4BB6-4B15-B07A-A00791C7F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985680" y="741240"/>
            <a:ext cx="4886640" cy="3665520"/>
          </a:xfrm>
          <a:prstGeom prst="rect">
            <a:avLst/>
          </a:prstGeom>
          <a:ln w="0">
            <a:noFill/>
          </a:ln>
        </p:spPr>
      </p:sp>
      <p:sp>
        <p:nvSpPr>
          <p:cNvPr id="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CCAF-A695-4B02-9E70-DC17C0073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985680" y="741240"/>
            <a:ext cx="4886640" cy="3665520"/>
          </a:xfrm>
          <a:prstGeom prst="rect">
            <a:avLst/>
          </a:prstGeom>
          <a:ln w="0">
            <a:noFill/>
          </a:ln>
        </p:spPr>
      </p:sp>
      <p:sp>
        <p:nvSpPr>
          <p:cNvPr id="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BAC9-2161-4253-BFC4-A16FE4F21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7F5D-5741-454F-B1E5-7AA7EBCDF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985680" y="741240"/>
            <a:ext cx="4886640" cy="3665520"/>
          </a:xfrm>
          <a:prstGeom prst="rect">
            <a:avLst/>
          </a:prstGeom>
          <a:ln w="0">
            <a:noFill/>
          </a:ln>
        </p:spPr>
      </p:sp>
      <p:sp>
        <p:nvSpPr>
          <p:cNvPr id="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0FA0-A66F-4A23-88EF-F30D86DAB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0A5A-006F-40D4-918F-9A57838A0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985680" y="741240"/>
            <a:ext cx="4886640" cy="3665520"/>
          </a:xfrm>
          <a:prstGeom prst="rect">
            <a:avLst/>
          </a:prstGeom>
          <a:ln w="0">
            <a:noFill/>
          </a:ln>
        </p:spPr>
      </p:sp>
      <p:sp>
        <p:nvSpPr>
          <p:cNvPr id="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68B5-6F57-49C6-A89D-3B21C2A3D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985680" y="741240"/>
            <a:ext cx="4886640" cy="3665520"/>
          </a:xfrm>
          <a:prstGeom prst="rect">
            <a:avLst/>
          </a:prstGeom>
          <a:ln w="0">
            <a:noFill/>
          </a:ln>
        </p:spPr>
      </p:sp>
      <p:sp>
        <p:nvSpPr>
          <p:cNvPr id="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49D2-2B68-43B8-AD73-554099BE9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985680" y="741240"/>
            <a:ext cx="4886640" cy="3665520"/>
          </a:xfrm>
          <a:prstGeom prst="rect">
            <a:avLst/>
          </a:prstGeom>
          <a:ln w="0">
            <a:noFill/>
          </a:ln>
        </p:spPr>
      </p:sp>
      <p:sp>
        <p:nvSpPr>
          <p:cNvPr id="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6833-39F3-4D37-927B-FD750E013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9A8E-E463-478A-B192-DEB521D36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985680" y="741240"/>
            <a:ext cx="4886640" cy="3665520"/>
          </a:xfrm>
          <a:prstGeom prst="rect">
            <a:avLst/>
          </a:prstGeom>
          <a:ln w="0">
            <a:noFill/>
          </a:ln>
        </p:spPr>
      </p:sp>
      <p:sp>
        <p:nvSpPr>
          <p:cNvPr id="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8EEB-45AF-4E73-920A-F23F7F30F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985680" y="741240"/>
            <a:ext cx="4886640" cy="3665520"/>
          </a:xfrm>
          <a:prstGeom prst="rect">
            <a:avLst/>
          </a:prstGeom>
          <a:ln w="0">
            <a:noFill/>
          </a:ln>
        </p:spPr>
      </p:sp>
      <p:sp>
        <p:nvSpPr>
          <p:cNvPr id="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1E93-9E41-4F8C-93C8-7FED4B8D4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A60A-21BB-41E4-9AAB-44B5AF8BE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985680" y="741240"/>
            <a:ext cx="4886640" cy="3665520"/>
          </a:xfrm>
          <a:prstGeom prst="rect">
            <a:avLst/>
          </a:prstGeom>
          <a:ln w="0">
            <a:noFill/>
          </a:ln>
        </p:spPr>
      </p:sp>
      <p:sp>
        <p:nvSpPr>
          <p:cNvPr id="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89DE-421D-48A1-AA86-C3C0A3A83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189D-C90D-4B09-B454-6BD51059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985680" y="741240"/>
            <a:ext cx="4886640" cy="3665520"/>
          </a:xfrm>
          <a:prstGeom prst="rect">
            <a:avLst/>
          </a:prstGeom>
          <a:ln w="0">
            <a:noFill/>
          </a:ln>
        </p:spPr>
      </p:sp>
      <p:sp>
        <p:nvSpPr>
          <p:cNvPr id="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81E9-0C4D-41A4-B5F9-5FCA2FB11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DCBC-0684-475A-8B05-EB0457110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ABA56-9970-4DE3-92EB-F7137D6C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B6ABCF-CB2C-4ECE-BB95-C19BEFF271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F5ABB6-39E0-401E-942B-270094E954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8EB5C-13AA-4DC5-B7F1-F29500F84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7240A-0E32-4CBC-9304-78D666450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EC2BC-F973-4E26-821D-78361E97D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9C450-634D-4B65-B915-C4D9F03E4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6095FD-DCCC-4D62-83AC-042F11C8E5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8E6E8-525F-4CAE-83FF-4C30F7D667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BD6377-D5A7-4E42-9F6A-058477F5A1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91B63F-B176-46C8-9873-6E7863C6F7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F16D-E472-4BC0-83E1-8469AB2FA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1C4F6F-3ED6-4DBD-B733-7B10811E29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631354-5EAF-47A0-9976-59DEC6FCFC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B6D258-9283-4EBC-8629-2595A57FC5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419262-7519-4D15-9BD9-5BA1911481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EFB0D4-C264-447B-AFED-D81918592A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E5F597-554F-49B1-B569-491E004752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E926DB-473E-4C9A-98A8-98E774FC03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08E14-DF5A-4B94-993D-BF200D0BE3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8B4314-52DE-49CF-A21A-DFE3250FE6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7B14B7-15DA-4184-AF6A-89A34D1EFF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3751D-CD4B-4A04-9085-9F44877EB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44B79E-3081-4A84-A83B-60EEA9D430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CCA0E3-58AA-48A7-AD21-9F87A04341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88C059-D928-4DF6-BB06-27447DA48F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0F9589-9007-4F23-A4B2-234F3D0A94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7D5574-DA4A-498E-9FB1-5B51D04037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9573BB-F042-4870-A388-B66938DDD5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AA9419-7EDC-4A5F-B658-4665899365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E5538-E73D-4EB3-A4A8-60DDCB6E02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593FB1-E134-4B81-8DBD-C84DD10040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96E92D-2CE5-45CD-8AD6-E47F3AD3A4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78CE4-42AD-41AF-888D-370D1B336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E269E2-A4D3-4EDF-9A1E-C4372A5447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D00351-8FCC-4815-8F0C-722A094C20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496AC7-1143-4982-B822-6D9E6B3D3A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17811E5-4A70-4D35-BE63-8415B53CDB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5745F5-AED8-4092-BB3B-4BD1B25665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93154E-E13E-4396-AA7D-080158FBBB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79B2C4-6E47-4D93-ADAA-4936B874C4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4B1924-3411-45B0-9A20-3EF441062F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9393E8-1AC5-4358-89F2-BBC24C8576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75420D-72E4-40D7-AD5F-B33C07440A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4C9B-AFAD-4B0F-B4FC-5E91F2FD2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6BB240-57EE-4483-99A5-D13A9D99CF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93CB46-CAC6-4F50-8D74-CD5840B24F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AE3D43-7ED5-4E63-AC8C-69552A3F64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A2B6ED-2BF3-488F-90FB-3AEEDBA45D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05DD16-9E25-4008-9580-728DC9914F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4B2675B-CC87-404D-AFAA-A37FB8CDBD5E}"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5575CAC-A77A-4065-A95A-577C65E7E3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1FD40E5-01F4-4919-AF10-4D2845C9FB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BD6E13F-B047-4F1E-B587-1252C8FBEF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29FC17A-FE46-48B3-9221-7A1AE5A620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8FCE8-EEB8-4759-94C9-57494683C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ABE9645-0D58-4766-B367-2DC188A902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7E93BFC-CC80-48A4-A228-F67D0DE6D2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B37FFDE-89A3-419D-8950-73DEFBA768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0D8F234-37C4-4879-98C4-9C5AB35FCA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89D7774-58F1-4E20-9BD9-AD5A811950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5D0967C-8667-4085-9827-A67FA88C45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1C1FD26-A388-4869-AB40-1F3A0E5BB8A8}"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9D3D3-2095-449B-B906-15ED6E7B3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E1D55-5E74-4E40-9DB5-C1DC49E65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DCAD-3A5C-4E27-999F-CD0C1C8EB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B9E7-B9AC-4317-AB0C-12A924B84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F78F-517E-4841-A5A7-D8B0BD63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59869-5AE4-4CE7-B3C1-2FF36592A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CBEC-CC34-4F04-9B82-0A9B71B4D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7C298-8BA8-4CAD-811A-AC3D13ECC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7ADC5-1CBE-4C44-8310-3E9D4D293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F34BC-25DF-4E07-8538-58EDB6EB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E7C4C-51F2-4BB7-B7B7-F56FD4AF66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22836-44DE-487F-AE67-D373E9AAD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846E4-4699-4641-922F-962EB38FE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65AB2-4254-4FE3-A4AF-54F54EEE6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A27D0-3718-4C4A-948A-887AA10E3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0B69-404D-4962-B877-9E96393E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B720B-4FFD-489E-99EF-9C396FCEF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3EF3C-95D7-464F-8415-60F839A5D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ADEE3-B2E7-4F8D-BB8A-3C7773D22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21C26-99AB-4E53-AC52-A882190E3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395FB-6CCB-4D50-8D16-638957069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A5735-1074-4E26-ADA7-BF967D84BC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C16AB-A0FC-4FBD-8793-819503539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5D187-72B7-4B0E-B797-E7CE0CCED3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A02B3-474D-4C37-A542-16C24F77A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59A6D-ED39-47F5-8B9B-C77644A3E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14964-4413-4971-A7DB-28F566C8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1E81F-B3FC-4CFD-ABE5-B28901299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1455A-2F8D-4EDE-B8A5-7A93803F0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8641B-F296-481A-9839-E4B11978F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B27A6-0C3A-43BB-B38B-A767F002E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7E7DA-7B76-4BA5-B8D5-36680F86A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F4477-9727-4A36-B8F7-8246A04C9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F3355-B064-43A4-8A87-E5365449C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7B5636-15F1-4F77-86D1-6C4D53018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EC5974-8C50-4F69-9AD5-596FFF21DB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119D52-3B79-46B0-B2DE-7BF5CAE85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5153C-AA65-40A2-AEBF-2F3AF1EE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06614-5935-4E4F-B352-7D4229F88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EA593-B88A-4D67-9F2F-B81BAA267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A99F0-ADC7-4928-BAAA-5AAC61A02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3CCB2-6F17-45EB-BFC0-0D2E539DE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88A5BC-3FEA-48CA-A433-039F62675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03718-A094-49E1-A47A-D625B5015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7294A-C86F-4189-BADC-BAE448451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9FD47-B885-47A6-82DF-66047447F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E4402-45E9-4343-AC17-5D6D319DE6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9BAD6C-3D49-449E-9D93-BC17E76ADC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28F1-C669-4C35-8E20-57CB4A19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9E7099-44D5-410D-8B80-3A4A65FCF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3AF393-2AF1-46DC-B3CC-93ECA02E0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5A5B2-C3BD-4459-AC79-0BA08F768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D92F13-CC53-41F4-ADDA-99AEC94E5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BF7C0-4F4B-49C7-AE1D-22155B32E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D22BE-8CC0-4D4F-8727-475FA2A23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E4B14-EA60-4F6C-AFFF-11CC1A9A13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B0AB7-1594-4759-98BE-A4D13CC89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3D8FB-55D8-498B-B8BB-4EAEC0838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BB117-64AF-4C57-9C18-14423A456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EA46-D369-4BCF-8EFE-B7488432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E1131-0C3F-4B69-9324-A78D50460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DD8545-7AB1-4184-91F4-2464847E2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0EDFEE-8E03-477A-B045-B51C268BD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E29D0-E833-4D2E-A308-3E7736BBA7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1F59F-8D72-4BED-8915-76B02004E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1A76F-4364-45D2-A5EE-9E0EB7122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863E07-2535-42FB-8029-515899FF6E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62D988-72F8-4C63-85C5-27243EFF3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FA1E0-09D3-41E6-8FBD-3900A5E08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8FC71-FE76-4B61-B1F9-E6BF1F536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80A0-C302-4A98-BBC5-6742B5EE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55101-A94D-4130-84E6-D09293DEA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414AC-3E8C-40B5-85C6-332543CD8A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433DD-35C3-4568-A7F7-D492E8F23A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C1EA80-6CF0-40EF-B1D7-2A67D8147B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A9B61-67B2-41DE-B231-5679C1FBF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BD72D-3714-4964-B182-AC6D4051E6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658725-5EBD-491C-9CF9-D6A04DA4EB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3FFC60-C986-43D8-A638-A66744BE2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11130-BDE4-41F6-817D-1FC306F65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4BA6D4-4B91-461E-86C6-B2A43C3C1F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80B3-0AF6-42EC-B894-5C38044C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8DA4C-B4C5-4D11-BCBE-BD02F3948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A460D-0AA8-4E6A-87D2-6AD3768D2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5E9EEB-2471-4A1B-AF1F-CA1069312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67FED-95F3-474A-9E4C-FF9E247CD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FC291-BD59-4437-BA74-04F1405118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579F3B-4E34-4CF1-BF55-4DB1A6C8BD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14903C-0F17-4433-B8E2-1DBC459F3F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0A6E69-7711-42DD-AF04-C44FD72B5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423F51-6ACE-49C7-976A-92A4AFAC1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308FA-90D3-4D67-858F-91905F682A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A991-53CD-42BB-841C-106E268CAF8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59DD-EFE0-4230-B045-ADD1908139C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F497-ACFD-43BA-8135-3705DB8A9C3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A2AD-A432-4FE5-8E91-244B4B7ECAC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312C-12F8-4968-8688-62047F420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0334-81DC-4F9B-89C3-32F9A7443E4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248F-03A0-457D-ACAC-869A4985342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71C8-490F-4034-9EE0-2B847F7014E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D9EC-DFB2-437D-A56D-96950DA5B7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A7B3-A115-4656-B32D-D5B6986BA4C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C2D3-DB67-4025-A049-DBF0A4D186C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55ED-52D0-42C2-AE83-4F77DF4CD23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F617-F247-46F7-9729-657D18F85BF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1463760"/>
            <a:ext cx="7596360" cy="28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
        <p:nvSpPr>
          <p:cNvPr id="556" name="10 - Ορθογώνιο"/>
          <p:cNvSpPr/>
          <p:nvPr/>
        </p:nvSpPr>
        <p:spPr>
          <a:xfrm>
            <a:off x="2286000" y="5000760"/>
            <a:ext cx="59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Arial"/>
                <a:ea typeface="Arial"/>
              </a:rPr>
              <a:t>ΕΙΣΗΓΗΤΗΣ: Παναγιώτης Ν. Μαντάς</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9280" y="1392120"/>
            <a:ext cx="860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052280"/>
            <a:ext cx="8135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58" name="Ομάδα 1"/>
          <p:cNvGrpSpPr/>
          <p:nvPr/>
        </p:nvGrpSpPr>
        <p:grpSpPr>
          <a:xfrm>
            <a:off x="0" y="115920"/>
            <a:ext cx="9144000" cy="6551640"/>
            <a:chOff x="0" y="115920"/>
            <a:chExt cx="9144000" cy="6551640"/>
          </a:xfrm>
        </p:grpSpPr>
        <p:grpSp>
          <p:nvGrpSpPr>
            <p:cNvPr id="559" name="Ομάδα 1"/>
            <p:cNvGrpSpPr/>
            <p:nvPr/>
          </p:nvGrpSpPr>
          <p:grpSpPr>
            <a:xfrm>
              <a:off x="0" y="115920"/>
              <a:ext cx="9144000" cy="6551640"/>
              <a:chOff x="0" y="115920"/>
              <a:chExt cx="9144000" cy="6551640"/>
            </a:xfrm>
          </p:grpSpPr>
          <p:sp>
            <p:nvSpPr>
              <p:cNvPr id="5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 ΤΩΝ ΜΑΘΗΤΩΝ ΜΕ ΕΕΑ/ΑΝΑΠΗΡΙΕΣ </a:t>
            </a:r>
            <a:br>
              <a:rPr sz="3200"/>
            </a:br>
            <a:br>
              <a:rPr sz="3200"/>
            </a:br>
            <a:br>
              <a:rPr sz="3200"/>
            </a:br>
            <a:r>
              <a:rPr b="1" lang="el-GR" sz="2000" spc="-1" strike="noStrike">
                <a:solidFill>
                  <a:srgbClr val="000099"/>
                </a:solidFill>
                <a:latin typeface="Arial"/>
                <a:ea typeface="Arial"/>
              </a:rPr>
              <a:t>ΕΙΣΗΓΗΤΗΣ: Παναγιώτης Ν. Μαντάς</a:t>
            </a:r>
            <a:br>
              <a:rPr sz="3200"/>
            </a:br>
            <a:endParaRPr b="0" lang="en-US" sz="20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64" name="Picture 9" descr=""/>
          <p:cNvPicPr/>
          <p:nvPr/>
        </p:nvPicPr>
        <p:blipFill>
          <a:blip r:embed="rId1"/>
          <a:stretch/>
        </p:blipFill>
        <p:spPr>
          <a:xfrm>
            <a:off x="0" y="0"/>
            <a:ext cx="9144000" cy="1368360"/>
          </a:xfrm>
          <a:prstGeom prst="rect">
            <a:avLst/>
          </a:prstGeom>
          <a:ln w="0">
            <a:noFill/>
          </a:ln>
        </p:spPr>
      </p:pic>
      <p:pic>
        <p:nvPicPr>
          <p:cNvPr id="865" name="Picture 10" descr=""/>
          <p:cNvPicPr/>
          <p:nvPr/>
        </p:nvPicPr>
        <p:blipFill>
          <a:blip r:embed="rId2"/>
          <a:stretch/>
        </p:blipFill>
        <p:spPr>
          <a:xfrm>
            <a:off x="1258920" y="2060640"/>
            <a:ext cx="1297080" cy="1528560"/>
          </a:xfrm>
          <a:prstGeom prst="rect">
            <a:avLst/>
          </a:prstGeom>
          <a:ln w="0">
            <a:noFill/>
          </a:ln>
        </p:spPr>
      </p:pic>
      <p:pic>
        <p:nvPicPr>
          <p:cNvPr id="866" name="12 - Εικόνα" descr=""/>
          <p:cNvPicPr/>
          <p:nvPr/>
        </p:nvPicPr>
        <p:blipFill>
          <a:blip r:embed="rId3"/>
          <a:stretch/>
        </p:blipFill>
        <p:spPr>
          <a:xfrm>
            <a:off x="6948360" y="1989000"/>
            <a:ext cx="1444680" cy="1573200"/>
          </a:xfrm>
          <a:prstGeom prst="rect">
            <a:avLst/>
          </a:prstGeom>
          <a:ln w="0">
            <a:noFill/>
          </a:ln>
        </p:spPr>
      </p:pic>
      <p:sp>
        <p:nvSpPr>
          <p:cNvPr id="867"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68"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7" name="Ομάδα 1"/>
          <p:cNvGrpSpPr/>
          <p:nvPr/>
        </p:nvGrpSpPr>
        <p:grpSpPr>
          <a:xfrm>
            <a:off x="0" y="115920"/>
            <a:ext cx="9144000" cy="6551640"/>
            <a:chOff x="0" y="115920"/>
            <a:chExt cx="9144000" cy="6551640"/>
          </a:xfrm>
        </p:grpSpPr>
        <p:grpSp>
          <p:nvGrpSpPr>
            <p:cNvPr id="568" name="Ομάδα 1"/>
            <p:cNvGrpSpPr/>
            <p:nvPr/>
          </p:nvGrpSpPr>
          <p:grpSpPr>
            <a:xfrm>
              <a:off x="0" y="115920"/>
              <a:ext cx="9144000" cy="6551640"/>
              <a:chOff x="0" y="115920"/>
              <a:chExt cx="9144000" cy="6551640"/>
            </a:xfrm>
          </p:grpSpPr>
          <p:sp>
            <p:nvSpPr>
              <p:cNvPr id="5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81000"/>
            <a:ext cx="83534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6" name="Ομάδα 1"/>
          <p:cNvGrpSpPr/>
          <p:nvPr/>
        </p:nvGrpSpPr>
        <p:grpSpPr>
          <a:xfrm>
            <a:off x="0" y="115920"/>
            <a:ext cx="9144000" cy="6551640"/>
            <a:chOff x="0" y="115920"/>
            <a:chExt cx="9144000" cy="6551640"/>
          </a:xfrm>
        </p:grpSpPr>
        <p:grpSp>
          <p:nvGrpSpPr>
            <p:cNvPr id="577" name="Ομάδα 1"/>
            <p:cNvGrpSpPr/>
            <p:nvPr/>
          </p:nvGrpSpPr>
          <p:grpSpPr>
            <a:xfrm>
              <a:off x="0" y="115920"/>
              <a:ext cx="9144000" cy="6551640"/>
              <a:chOff x="0" y="115920"/>
              <a:chExt cx="9144000" cy="6551640"/>
            </a:xfrm>
          </p:grpSpPr>
          <p:sp>
            <p:nvSpPr>
              <p:cNvPr id="5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4:58Z</dcterms:modified>
  <cp:revision>153</cp:revision>
  <dc:subject/>
  <dc:title>Παρουσίαση του PowerPoint</dc:title>
</cp:coreProperties>
</file>